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FA0-64F9-469B-BAA8-373CE1D3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196-805B-4F72-88A3-F8CB6A6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F7B-B14E-422C-B9EC-A98A580F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1E2-CAD9-4959-87A3-EFF3DCF3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0D0-7152-48FC-BD57-049EED5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6F9-E4E3-4A93-9C67-68BFC13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02F-5D4C-4DC7-8314-C4679D5D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372-2D53-4174-8908-7763793D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3C4-578B-4774-B8DD-259D55E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C1A-9B6A-40C4-8E9F-5124866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E9D-A5F2-405B-AF26-936811A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50E-13C6-42D3-8C5A-5A79EF6E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20A-F7D4-42A1-9A7A-A2A2BE5D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3809880"/>
            <a:ext cx="5867640" cy="1828800"/>
            <a:chOff x="609480" y="3809880"/>
            <a:chExt cx="5867640" cy="1828800"/>
          </a:xfrm>
        </p:grpSpPr>
        <p:sp>
          <p:nvSpPr>
            <p:cNvPr id="42" name=""/>
            <p:cNvSpPr/>
            <p:nvPr/>
          </p:nvSpPr>
          <p:spPr>
            <a:xfrm>
              <a:off x="609480" y="4343400"/>
              <a:ext cx="99072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7400" y="4343400"/>
              <a:ext cx="1371600" cy="685800"/>
            </a:xfrm>
            <a:prstGeom prst="hexagon">
              <a:avLst>
                <a:gd name="adj" fmla="val 50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4495680"/>
              <a:ext cx="457200" cy="46044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62520" y="518148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62520" y="3809880"/>
              <a:ext cx="457200" cy="45720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51055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un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9680" y="510552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reign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95680" y="5257800"/>
              <a:ext cx="172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junktive Verknüpf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4572000"/>
              <a:ext cx="19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Disjunktive Verknüpf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388620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Konjunktive Verknüpf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228600"/>
            <a:ext cx="6172200" cy="9448920"/>
            <a:chOff x="304920" y="228600"/>
            <a:chExt cx="6172200" cy="9448920"/>
          </a:xfrm>
        </p:grpSpPr>
        <p:sp>
          <p:nvSpPr>
            <p:cNvPr id="53" name=""/>
            <p:cNvSpPr/>
            <p:nvPr/>
          </p:nvSpPr>
          <p:spPr>
            <a:xfrm>
              <a:off x="457200" y="22860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dürfnis, 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orliegendes Pr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lem zu lö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0" y="22860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dee v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inem nützli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gra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52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7400" y="914400"/>
              <a:ext cx="3049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5280" y="1066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2320" y="1066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1371600"/>
              <a:ext cx="32004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09680" y="1219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24080" y="83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9680" y="1828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1981080"/>
              <a:ext cx="304920" cy="3049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5360" y="1371600"/>
              <a:ext cx="342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Suche nach einem vergleichbaren Projekt, das ein Programm ähnlicher Funktionalität zum Ziel 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36232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Ke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ergleichbares 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gefun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2133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2133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5680" y="213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5280" y="213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3200400"/>
              <a:ext cx="9144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3440" y="3219480"/>
              <a:ext cx="1009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eid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ür eige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411480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gramm ent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spricht nicht eig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orstell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411480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gra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pricht eig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orstell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236232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ergleichb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gefun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568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3124080"/>
              <a:ext cx="213372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2680" y="31240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est, ob dessen Programm 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igenen Vorstellungen entspri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81280" y="3886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48320" y="38862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8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3733920"/>
              <a:ext cx="304920" cy="3045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9680" y="4876920"/>
              <a:ext cx="27432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00160" y="4876920"/>
              <a:ext cx="316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eidung, ob eigenes Projekt begin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oder Beteiligung am existierenden 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716292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6934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40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520" y="56386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9320" y="5867280"/>
              <a:ext cx="1676160" cy="609840"/>
            </a:xfrm>
            <a:prstGeom prst="hexagon">
              <a:avLst>
                <a:gd name="adj" fmla="val 6871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luss z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eiligung am Pr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jekt getroff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4114800"/>
              <a:ext cx="1676520" cy="609480"/>
            </a:xfrm>
            <a:prstGeom prst="hexagon">
              <a:avLst>
                <a:gd name="adj" fmla="val 6876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6477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" y="6629400"/>
              <a:ext cx="2743200" cy="304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6638760"/>
              <a:ext cx="32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Klärung, ob Projekt aktiv fortgeführt w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7086600"/>
              <a:ext cx="304560" cy="30492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9680" y="7238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7238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7467480"/>
              <a:ext cx="1676160" cy="609840"/>
            </a:xfrm>
            <a:prstGeom prst="hexagon">
              <a:avLst>
                <a:gd name="adj" fmla="val 6871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wird nicht akti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ortgefüh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7467480"/>
              <a:ext cx="1676160" cy="609840"/>
            </a:xfrm>
            <a:prstGeom prst="hexagon">
              <a:avLst>
                <a:gd name="adj" fmla="val 6871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wird akti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ortgefüh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7238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238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8077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8229600"/>
              <a:ext cx="106704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8077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824868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eid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ür Über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des Projek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8915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9067680"/>
              <a:ext cx="1676160" cy="609840"/>
            </a:xfrm>
            <a:prstGeom prst="hexagon">
              <a:avLst>
                <a:gd name="adj" fmla="val 6871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ÜBER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8229600"/>
              <a:ext cx="106704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4160" y="8248680"/>
              <a:ext cx="1046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eid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ür Teil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m 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8915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9067680"/>
              <a:ext cx="1676160" cy="609840"/>
            </a:xfrm>
            <a:prstGeom prst="hexagon">
              <a:avLst>
                <a:gd name="adj" fmla="val 6871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TEIL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9000" y="5486400"/>
              <a:ext cx="3049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4724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9000" y="67816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029200" y="6705360"/>
              <a:ext cx="151920" cy="151560"/>
              <a:chOff x="5029200" y="6705360"/>
              <a:chExt cx="151920" cy="15156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5029920" y="6705000"/>
                <a:ext cx="1512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6200000">
                <a:off x="5029200" y="6705360"/>
                <a:ext cx="1512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105520" y="6858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762120" y="1219320"/>
            <a:ext cx="5333400" cy="7314840"/>
            <a:chOff x="762120" y="1219320"/>
            <a:chExt cx="5333400" cy="7314840"/>
          </a:xfrm>
        </p:grpSpPr>
        <p:sp>
          <p:nvSpPr>
            <p:cNvPr id="126" name=""/>
            <p:cNvSpPr/>
            <p:nvPr/>
          </p:nvSpPr>
          <p:spPr>
            <a:xfrm>
              <a:off x="2521800" y="1219320"/>
              <a:ext cx="1572120" cy="609120"/>
            </a:xfrm>
            <a:prstGeom prst="hexagon">
              <a:avLst>
                <a:gd name="adj" fmla="val 6452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1219320"/>
              <a:ext cx="1572120" cy="609120"/>
            </a:xfrm>
            <a:prstGeom prst="hexagon">
              <a:avLst>
                <a:gd name="adj" fmla="val 6452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TEIL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80120" y="1219320"/>
              <a:ext cx="1572120" cy="609120"/>
            </a:xfrm>
            <a:prstGeom prst="hexagon">
              <a:avLst>
                <a:gd name="adj" fmla="val 6452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ÜBERNAH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07320" y="1828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6880" y="1981440"/>
              <a:ext cx="2000880" cy="60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080" y="1954800"/>
              <a:ext cx="2360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roblemanalyse, Bestim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der Anforder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und erste Implementier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732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5760" y="2743200"/>
              <a:ext cx="1743120" cy="609120"/>
            </a:xfrm>
            <a:prstGeom prst="hexagon">
              <a:avLst>
                <a:gd name="adj" fmla="val 7154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Lauf- und funk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ionsfähiges Progra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liegt v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0732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1360" y="3734640"/>
              <a:ext cx="12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5640" y="1828440"/>
              <a:ext cx="0" cy="19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4720" y="3505320"/>
              <a:ext cx="1286280" cy="45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2720" y="3502080"/>
              <a:ext cx="142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nkündigung 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Veröffentlich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07320" y="3962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63920" y="4419360"/>
              <a:ext cx="1572120" cy="609480"/>
            </a:xfrm>
            <a:prstGeom prst="hexagon">
              <a:avLst>
                <a:gd name="adj" fmla="val 6448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nwender 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wickler s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nteress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50520" y="5486400"/>
              <a:ext cx="25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550520" y="1828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50520" y="5943600"/>
              <a:ext cx="1798200" cy="609480"/>
            </a:xfrm>
            <a:prstGeom prst="hexagon">
              <a:avLst>
                <a:gd name="adj" fmla="val 7376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ingang v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Patches, Fehlerbeschre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ungen u.ä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64400" y="4114800"/>
              <a:ext cx="285480" cy="3045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0240" y="4267080"/>
              <a:ext cx="128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800" y="4267080"/>
              <a:ext cx="7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4980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4980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6840" y="5181480"/>
              <a:ext cx="1286280" cy="60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4840" y="5165280"/>
              <a:ext cx="1429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est und Fehl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hebung innerhal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der Commun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80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49800" y="6553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34840" y="6689160"/>
              <a:ext cx="1429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ehlerbeheb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rweiter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Dokumentation u.ä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06840" y="6705720"/>
              <a:ext cx="1286280" cy="60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520" y="7467480"/>
              <a:ext cx="1798200" cy="609480"/>
            </a:xfrm>
            <a:prstGeom prst="hexagon">
              <a:avLst>
                <a:gd name="adj" fmla="val 7376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Fortgeschritt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zw. neue 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liegt v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49800" y="7315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6880" y="8229600"/>
              <a:ext cx="285480" cy="3045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3040" y="7162560"/>
              <a:ext cx="1572480" cy="609120"/>
            </a:xfrm>
            <a:prstGeom prst="hexagon">
              <a:avLst>
                <a:gd name="adj" fmla="val 6453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EN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49800" y="8077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8520" y="3657240"/>
              <a:ext cx="144000" cy="151560"/>
              <a:chOff x="1478520" y="3657240"/>
              <a:chExt cx="144000" cy="151560"/>
            </a:xfrm>
          </p:grpSpPr>
          <p:sp>
            <p:nvSpPr>
              <p:cNvPr id="161" name=""/>
              <p:cNvSpPr/>
              <p:nvPr/>
            </p:nvSpPr>
            <p:spPr>
              <a:xfrm flipH="1" flipV="1">
                <a:off x="1478520" y="3656880"/>
                <a:ext cx="1432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 rot="5400000">
                <a:off x="1474560" y="3661200"/>
                <a:ext cx="151200" cy="1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181520" y="3733200"/>
              <a:ext cx="148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0520" y="3809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81520" y="3734640"/>
              <a:ext cx="0" cy="23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2960" y="8381880"/>
              <a:ext cx="11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1360" y="4419360"/>
              <a:ext cx="1572120" cy="609480"/>
            </a:xfrm>
            <a:prstGeom prst="hexagon">
              <a:avLst>
                <a:gd name="adj" fmla="val 6448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nwender 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wickler sind ni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nteress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3480" y="70102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365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652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8560" y="533412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93600" y="5181480"/>
              <a:ext cx="285480" cy="30456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440" y="5334120"/>
              <a:ext cx="7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440" y="6020280"/>
              <a:ext cx="0" cy="9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9440" y="533412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16720" y="6020280"/>
              <a:ext cx="118044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9360" y="5974560"/>
              <a:ext cx="1232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ntscheid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ob Projek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übergeben bzw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einstel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07760" y="6400800"/>
              <a:ext cx="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2720" y="8381880"/>
              <a:ext cx="171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8560" y="6782400"/>
              <a:ext cx="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7760" y="6400800"/>
              <a:ext cx="40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178640" y="6019920"/>
              <a:ext cx="0" cy="23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307760" y="7391520"/>
              <a:ext cx="0" cy="9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440" y="5334120"/>
              <a:ext cx="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1:09:25Z</dcterms:created>
  <dc:creator>Frank Bauer</dc:creator>
  <dc:description/>
  <dc:language>en-US</dc:language>
  <cp:lastModifiedBy>Frank Bauer</cp:lastModifiedBy>
  <cp:lastPrinted>2001-10-28T16:41:12Z</cp:lastPrinted>
  <dcterms:modified xsi:type="dcterms:W3CDTF">2001-11-04T18:01:12Z</dcterms:modified>
  <cp:revision>40</cp:revision>
  <dc:subject/>
  <dc:title>Abbildungen</dc:title>
</cp:coreProperties>
</file>